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ADB2A-355C-4C3F-BD37-463CC4240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F693-0F32-4099-83D4-AE04BC1E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8933-18AD-48D7-8D9B-4AA10A838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3EA6-4742-418B-A7F2-EF61DB940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4A4B-827F-4FB3-BA99-20A8B5CB8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CE57-3549-427A-9DA8-B962FF351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654F-AD7C-4155-9CB2-62983104F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2EA3-12DA-4547-9C82-A0E917BE2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3015-3299-438F-B8A9-C6BE9F9CB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418A-E008-4299-A352-C3E93C5AD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68E8-F509-4EFF-B064-9B00386A7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498F-3716-44EC-8F21-B601A880F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5 Generation  PG65 BA, P. Baer   03-09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6D14A8-9ED1-40A0-B5EB-CB70966C25B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close the GAP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7080" y="1676520"/>
          <a:ext cx="6959520" cy="4297320"/>
        </p:xfrm>
        <a:graphic>
          <a:graphicData uri="http://schemas.openxmlformats.org/drawingml/2006/table">
            <a:tbl>
              <a:tblPr/>
              <a:tblGrid>
                <a:gridCol w="1258920"/>
                <a:gridCol w="938160"/>
                <a:gridCol w="939600"/>
                <a:gridCol w="965520"/>
                <a:gridCol w="965160"/>
                <a:gridCol w="990360"/>
                <a:gridCol w="90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p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y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C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3080" y="111456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levers per product and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05520" y="614376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igh       o mid       -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75760" y="1143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8480" y="11764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14637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6440" y="2355840"/>
            <a:ext cx="1717560" cy="307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26440" y="28749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vers to impr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26440" y="361008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rge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65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26440" y="43401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5541840"/>
            <a:ext cx="1103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se 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79600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endant on sale cj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582444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€ already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1168-7154-40DA-B9B1-CE27894DEF83}" type="slidenum">
              <a:t>1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H Fink</dc:creator>
  <dc:description/>
  <dc:language>en-US</dc:language>
  <cp:lastModifiedBy>Siemens-Mitarbeiter</cp:lastModifiedBy>
  <cp:lastPrinted>2002-03-20T19:03:58Z</cp:lastPrinted>
  <dcterms:modified xsi:type="dcterms:W3CDTF">2003-09-25T15:50:16Z</dcterms:modified>
  <cp:revision>502</cp:revision>
  <dc:subject/>
  <dc:title>L55 Barracuda M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stefanie.kraemer@siemens.com</vt:lpwstr>
  </property>
  <property fmtid="{D5CDD505-2E9C-101B-9397-08002B2CF9AE}" pid="3" name="_AuthorEmailDisplayName">
    <vt:lpwstr>Kraemer Stefanie ICM MP UC CS</vt:lpwstr>
  </property>
  <property fmtid="{D5CDD505-2E9C-101B-9397-08002B2CF9AE}" pid="4" name="_EmailEntryID">
    <vt:lpwstr>000000006BFB1AC7D769D4118E4C00508B656DE207002D8F24094DEFD3118E4800508B656DE20000001DB66F00002C596574BA874846A35C843BA87906D7000000FC8BEC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0657465722E4261657200</vt:lpwstr>
  </property>
  <property fmtid="{D5CDD505-2E9C-101B-9397-08002B2CF9AE}" pid="6" name="_EmailSubject">
    <vt:lpwstr>Bitte überarbeiten Sie 'product targets_180903'</vt:lpwstr>
  </property>
  <property fmtid="{D5CDD505-2E9C-101B-9397-08002B2CF9AE}" pid="7" name="_ReviewCycleID">
    <vt:r8>-806922927</vt:r8>
  </property>
  <property fmtid="{D5CDD505-2E9C-101B-9397-08002B2CF9AE}" pid="8" name="_ReviewingToolsShownOnce">
    <vt:lpwstr/>
  </property>
</Properties>
</file>